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0.jpeg" ContentType="image/jpeg"/>
  <Override PartName="/ppt/media/image5.jpeg" ContentType="image/jpeg"/>
  <Override PartName="/ppt/media/image18.wmf" ContentType="image/x-wmf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E35E-28EC-4C42-8140-7D06BD27C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5B1F-FF94-492F-B0CB-93291DB7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9653-59A1-4385-A774-E4D12F7B1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F960-5887-45FB-B15E-FBA19FA2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9469-BD1E-4F9B-845C-F03266CDE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6EB4-9B52-4FF9-8D3F-82BB67CD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8C53-1544-4E0F-8548-5F877E5D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278C-00E8-4957-A220-43FB42AF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C8F3-CCB5-4673-BFC8-983B58FE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8BB2-42B0-456E-897D-3A015CF9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CB49-8878-4DC4-9A61-3D8304A9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234F-3768-482F-9777-E477C474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65E8-58A2-4F29-AECF-A95105D1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3B33-7DC0-4491-9625-C6BADA06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EE71-8F25-41E7-8914-334DBEB3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C049-66F1-405B-8184-FE15370BF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16F9-C271-4A0F-BBFE-0F2CDEE4E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0210D-5AEB-41AC-8574-D67C3B6BB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D6517-6D1E-4A5D-A7E2-CCE168D2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0391A-B24E-494D-8CE2-F416C912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7AF0B-FA11-47DC-9B42-78AD971F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B71B8-EBA2-41F9-9F48-401DBA70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C881-2DE9-4B81-8C84-9C810044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6BBDC-D7DA-44DA-A778-BC7CA236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60FCC-3942-411F-A7A2-C430900B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D05DD-C1EE-4A73-9333-BF95AAAA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FE3D7-61B2-471E-BC1D-C54829B4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7487F-AB10-4D47-BB9F-8393A1E3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B4ADC-8946-4EE7-B280-DB611CD5E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37FCE-345F-4E26-82C7-3ED6D9690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E449F-E075-4A56-BA30-D034D8EFE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046C9-23AA-4F25-8BAF-10598986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9E3D5-6EF8-478C-AB56-C575CBC7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A43F-F74A-421F-94CA-1C5D6C4D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0AB27-0814-4CBF-95A1-13B20253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FBCDD-1EAA-4D1E-9F99-719AACF1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A74CC-FA67-41ED-BF10-9528E7C7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69B63-7025-4908-BEF5-DAD191A5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7E1DD-9AA7-449F-AA13-71243218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245A0-948A-40E0-8139-080A0A6D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6089B-69F4-4132-8F55-9A237DFA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39157-87DD-49ED-BCD1-0FC4E3D7C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3655F-DDE2-467F-96EA-99A825E12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25BEB-5B9D-4983-A79E-25B242130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05C3-704E-4DF3-93F5-F8778E71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E398C-5336-4DB2-B43C-0B0BF7C1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8BDD6-523E-475F-9045-8C627C32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C5884-DCAC-4E34-879B-D7ABC9DB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21DF9-087B-4EED-A906-E3F5129A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F7434-3AB2-4D9F-8571-587C0830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390B7-CBDB-4C75-B8B2-4A3252E6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1F5BA-E3A7-4D57-9991-E05EFE7E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66E0B-4087-47D6-8300-B91620F2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35935-7A10-4B92-AC6C-B92B1F61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AC451-652F-4C41-8262-2CFD3A4FE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8429-9A4D-48F7-B1FD-2D72060B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A28A8-50B6-4344-93E4-C977544A1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CF0EA-3238-47D5-A1EB-6890BA7A3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9C625-9CCE-4B32-8DC6-619C614D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FDA4D-8F15-417A-B275-D07D918E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12F8D-D790-479F-A586-DDA08124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67BF5-DC09-42D6-BE5E-3753048C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96B92-1829-4A41-897E-34C46FE0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3B214-1620-4589-9372-E1A762B9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3895A-7BA0-4751-9620-18F9ED0C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390EC-154E-4E94-B8C6-BCD4796F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F7F6-70A4-46AE-9BF9-F4281C28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B5C01-5404-4152-A051-46DEC15B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590EA-4994-48FA-9238-7A5D58312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177CB-4ED8-4480-A417-4A0915967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EA735-5992-4791-98B6-B9710E81D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5483B-4C1F-41A1-83CA-D97069A8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80D5F-F547-479D-B0B4-A31C692D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F900C-D943-4F17-A7A3-22F0A81B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A8A00-13A9-4806-86D9-452EC261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8F53F-142E-4E25-887D-97E8BE25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3C531-FA96-4E14-836E-35680CC0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049C-36EA-4704-A7C6-68C9E45E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6F57A-CF23-4644-B5B1-29166191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9FD79-0E1B-444F-9683-20458DBF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FDCAF-5855-4B61-AC10-A82FE966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F2A24-150A-4ED0-A32E-4D38783E4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508CB-418E-475B-8FA7-AD4413F90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F151-A6C4-4CDA-8075-0A0C5C0F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5AC7-2B2D-4039-8105-3712298708CB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6fb83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B315-EF90-45A2-9DB7-959CADF86656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6fb83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6132-B26E-47DF-849D-30F74A63D104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3731-A901-4B0B-B273-BB98DA64EFB9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4B4A-4E08-4039-8499-6687663B2DC5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2FD8-B2E1-4ACF-B5CC-1B0173FC535F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9e3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6ecf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CA5D-390B-401B-B942-07034AA38A99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181480" y="556236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53143"/>
                </a:solidFill>
                <a:latin typeface="Cooper Black"/>
              </a:rPr>
              <a:t>Challenge 1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7fd13b"/>
                </a:solidFill>
                <a:latin typeface="Cooper Black"/>
              </a:rPr>
              <a:t>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7fd13b"/>
              </a:solidFill>
              <a:latin typeface="Cooper Black"/>
              <a:ea typeface="Cooper Black"/>
            </a:endParaRPr>
          </a:p>
        </p:txBody>
      </p:sp>
      <p:sp>
        <p:nvSpPr>
          <p:cNvPr id="320" name="Rectangle 15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. LaRosa  http://www.middleschoolscience.com  for 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6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322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addc"/>
                </a:solidFill>
                <a:latin typeface="Cooper Black"/>
              </a:rPr>
              <a:t>Equipment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addc"/>
              </a:solidFill>
              <a:latin typeface="Cooper Black"/>
              <a:ea typeface="Cooper Black"/>
            </a:endParaRPr>
          </a:p>
        </p:txBody>
      </p:sp>
      <p:pic>
        <p:nvPicPr>
          <p:cNvPr id="323" name="Picture 7" descr="C:\Documents and Settings\Liz\Local Settings\Temporary Internet Files\Content.IE5\MB5MZXEX\MCj04110470000[1].wmf"/>
          <p:cNvPicPr/>
          <p:nvPr/>
        </p:nvPicPr>
        <p:blipFill>
          <a:blip r:embed="rId2"/>
          <a:stretch/>
        </p:blipFill>
        <p:spPr>
          <a:xfrm>
            <a:off x="533520" y="3429000"/>
            <a:ext cx="26668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8674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5a74"/>
                </a:solidFill>
                <a:latin typeface="Gill Sans MT"/>
              </a:rPr>
              <a:t> </a:t>
            </a:r>
            <a:r>
              <a:rPr b="0" lang="en-US" sz="3600" spc="-1" strike="noStrike">
                <a:solidFill>
                  <a:srgbClr val="495a74"/>
                </a:solidFill>
                <a:latin typeface="Gill Sans MT"/>
              </a:rPr>
              <a:t>Identify the following lab equipment: </a:t>
            </a:r>
            <a:endParaRPr b="0" lang="en-US" sz="36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25" name="Picture 11" descr="C:\Documents and Settings\Liz\Local Settings\Temporary Internet Files\Content.IE5\R9NS5F1O\MCj03108420000[1].wmf"/>
          <p:cNvPicPr/>
          <p:nvPr/>
        </p:nvPicPr>
        <p:blipFill>
          <a:blip r:embed="rId1"/>
          <a:stretch/>
        </p:blipFill>
        <p:spPr>
          <a:xfrm>
            <a:off x="1219320" y="1066680"/>
            <a:ext cx="2133360" cy="16970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2" descr="C:\Documents and Settings\Liz\Local Settings\Temporary Internet Files\Content.IE5\7TG4W3V7\MCj03108360000[1].wmf"/>
          <p:cNvPicPr/>
          <p:nvPr/>
        </p:nvPicPr>
        <p:blipFill>
          <a:blip r:embed="rId2"/>
          <a:stretch/>
        </p:blipFill>
        <p:spPr>
          <a:xfrm>
            <a:off x="4343400" y="914400"/>
            <a:ext cx="1523880" cy="1996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0" descr="http://www.columbia.edu/itc/chemistry/chem-cf1500/labpix/images/forceps.jpg"/>
          <p:cNvPicPr/>
          <p:nvPr/>
        </p:nvPicPr>
        <p:blipFill>
          <a:blip r:embed="rId3"/>
          <a:stretch/>
        </p:blipFill>
        <p:spPr>
          <a:xfrm rot="18497400">
            <a:off x="6310080" y="4689720"/>
            <a:ext cx="2921040" cy="603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1" descr="http://www.columbia.edu/itc/chemistry/chem-cf1500/labpix/images/longstemfunnel.jpg"/>
          <p:cNvPicPr/>
          <p:nvPr/>
        </p:nvPicPr>
        <p:blipFill>
          <a:blip r:embed="rId4"/>
          <a:stretch/>
        </p:blipFill>
        <p:spPr>
          <a:xfrm>
            <a:off x="7086600" y="838080"/>
            <a:ext cx="1143000" cy="20955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2" descr=""/>
          <p:cNvPicPr/>
          <p:nvPr/>
        </p:nvPicPr>
        <p:blipFill>
          <a:blip r:embed="rId5"/>
          <a:stretch/>
        </p:blipFill>
        <p:spPr>
          <a:xfrm>
            <a:off x="3581280" y="3733920"/>
            <a:ext cx="3429000" cy="2496960"/>
          </a:xfrm>
          <a:prstGeom prst="rect">
            <a:avLst/>
          </a:prstGeom>
          <a:ln w="0">
            <a:noFill/>
          </a:ln>
        </p:spPr>
      </p:pic>
      <p:pic>
        <p:nvPicPr>
          <p:cNvPr id="330" name="Rectangle 12" descr=""/>
          <p:cNvPicPr/>
          <p:nvPr/>
        </p:nvPicPr>
        <p:blipFill>
          <a:blip r:embed="rId6"/>
          <a:stretch/>
        </p:blipFill>
        <p:spPr>
          <a:xfrm>
            <a:off x="1773360" y="2786040"/>
            <a:ext cx="969840" cy="822240"/>
          </a:xfrm>
          <a:prstGeom prst="rect">
            <a:avLst/>
          </a:prstGeom>
          <a:ln w="0">
            <a:noFill/>
          </a:ln>
        </p:spPr>
      </p:pic>
      <p:pic>
        <p:nvPicPr>
          <p:cNvPr id="331" name="Rectangle 13" descr=""/>
          <p:cNvPicPr/>
          <p:nvPr/>
        </p:nvPicPr>
        <p:blipFill>
          <a:blip r:embed="rId7"/>
          <a:stretch/>
        </p:blipFill>
        <p:spPr>
          <a:xfrm>
            <a:off x="4505400" y="2938320"/>
            <a:ext cx="987480" cy="822600"/>
          </a:xfrm>
          <a:prstGeom prst="rect">
            <a:avLst/>
          </a:prstGeom>
          <a:ln w="0">
            <a:noFill/>
          </a:ln>
        </p:spPr>
      </p:pic>
      <p:pic>
        <p:nvPicPr>
          <p:cNvPr id="332" name="Rectangle 14" descr=""/>
          <p:cNvPicPr/>
          <p:nvPr/>
        </p:nvPicPr>
        <p:blipFill>
          <a:blip r:embed="rId8"/>
          <a:stretch/>
        </p:blipFill>
        <p:spPr>
          <a:xfrm>
            <a:off x="7248600" y="3011400"/>
            <a:ext cx="987480" cy="828720"/>
          </a:xfrm>
          <a:prstGeom prst="rect">
            <a:avLst/>
          </a:prstGeom>
          <a:ln w="0">
            <a:noFill/>
          </a:ln>
        </p:spPr>
      </p:pic>
      <p:pic>
        <p:nvPicPr>
          <p:cNvPr id="333" name="Rectangle 15" descr=""/>
          <p:cNvPicPr/>
          <p:nvPr/>
        </p:nvPicPr>
        <p:blipFill>
          <a:blip r:embed="rId9"/>
          <a:stretch/>
        </p:blipFill>
        <p:spPr>
          <a:xfrm>
            <a:off x="1384200" y="5834160"/>
            <a:ext cx="987480" cy="822240"/>
          </a:xfrm>
          <a:prstGeom prst="rect">
            <a:avLst/>
          </a:prstGeom>
          <a:ln w="0">
            <a:noFill/>
          </a:ln>
        </p:spPr>
      </p:pic>
      <p:pic>
        <p:nvPicPr>
          <p:cNvPr id="334" name="Rectangle 16" descr=""/>
          <p:cNvPicPr/>
          <p:nvPr/>
        </p:nvPicPr>
        <p:blipFill>
          <a:blip r:embed="rId10"/>
          <a:stretch/>
        </p:blipFill>
        <p:spPr>
          <a:xfrm>
            <a:off x="4584600" y="5834160"/>
            <a:ext cx="957240" cy="822240"/>
          </a:xfrm>
          <a:prstGeom prst="rect">
            <a:avLst/>
          </a:prstGeom>
          <a:ln w="0">
            <a:noFill/>
          </a:ln>
        </p:spPr>
      </p:pic>
      <p:pic>
        <p:nvPicPr>
          <p:cNvPr id="335" name="Rectangle 17" descr=""/>
          <p:cNvPicPr/>
          <p:nvPr/>
        </p:nvPicPr>
        <p:blipFill>
          <a:blip r:embed="rId11"/>
          <a:stretch/>
        </p:blipFill>
        <p:spPr>
          <a:xfrm>
            <a:off x="7480440" y="5602320"/>
            <a:ext cx="931680" cy="8287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7" descr="C:\Documents and Settings\Liz\Local Settings\Temporary Internet Files\Content.IE5\MB5MZXEX\MCj03402640000[1].wmf"/>
          <p:cNvPicPr/>
          <p:nvPr/>
        </p:nvPicPr>
        <p:blipFill>
          <a:blip r:embed="rId12"/>
          <a:stretch/>
        </p:blipFill>
        <p:spPr>
          <a:xfrm>
            <a:off x="1066680" y="4267080"/>
            <a:ext cx="2349720" cy="14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8674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5a74"/>
                </a:solidFill>
                <a:latin typeface="Gill Sans MT"/>
              </a:rPr>
              <a:t> </a:t>
            </a:r>
            <a:r>
              <a:rPr b="0" lang="en-US" sz="3600" spc="-1" strike="noStrike">
                <a:solidFill>
                  <a:srgbClr val="495a74"/>
                </a:solidFill>
                <a:latin typeface="Gill Sans MT"/>
              </a:rPr>
              <a:t>Identify the following lab equipment: </a:t>
            </a:r>
            <a:endParaRPr b="0" lang="en-US" sz="36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38" name="Picture 11" descr="C:\Documents and Settings\Liz\Local Settings\Temporary Internet Files\Content.IE5\R9NS5F1O\MCj03108420000[1].wmf"/>
          <p:cNvPicPr/>
          <p:nvPr/>
        </p:nvPicPr>
        <p:blipFill>
          <a:blip r:embed="rId1"/>
          <a:stretch/>
        </p:blipFill>
        <p:spPr>
          <a:xfrm>
            <a:off x="1219320" y="1066680"/>
            <a:ext cx="2133360" cy="16970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2" descr="C:\Documents and Settings\Liz\Local Settings\Temporary Internet Files\Content.IE5\7TG4W3V7\MCj03108360000[1].wmf"/>
          <p:cNvPicPr/>
          <p:nvPr/>
        </p:nvPicPr>
        <p:blipFill>
          <a:blip r:embed="rId2"/>
          <a:stretch/>
        </p:blipFill>
        <p:spPr>
          <a:xfrm>
            <a:off x="4343400" y="914400"/>
            <a:ext cx="1523880" cy="19969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0" descr="http://www.columbia.edu/itc/chemistry/chem-cf1500/labpix/images/forceps.jpg"/>
          <p:cNvPicPr/>
          <p:nvPr/>
        </p:nvPicPr>
        <p:blipFill>
          <a:blip r:embed="rId3"/>
          <a:stretch/>
        </p:blipFill>
        <p:spPr>
          <a:xfrm rot="18497400">
            <a:off x="6310080" y="4689720"/>
            <a:ext cx="2921040" cy="6030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1" descr="http://www.columbia.edu/itc/chemistry/chem-cf1500/labpix/images/longstemfunnel.jpg"/>
          <p:cNvPicPr/>
          <p:nvPr/>
        </p:nvPicPr>
        <p:blipFill>
          <a:blip r:embed="rId4"/>
          <a:stretch/>
        </p:blipFill>
        <p:spPr>
          <a:xfrm>
            <a:off x="7086600" y="838080"/>
            <a:ext cx="1143000" cy="20955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2" descr=""/>
          <p:cNvPicPr/>
          <p:nvPr/>
        </p:nvPicPr>
        <p:blipFill>
          <a:blip r:embed="rId5"/>
          <a:stretch/>
        </p:blipFill>
        <p:spPr>
          <a:xfrm>
            <a:off x="3581280" y="3733920"/>
            <a:ext cx="3429000" cy="2496960"/>
          </a:xfrm>
          <a:prstGeom prst="rect">
            <a:avLst/>
          </a:prstGeom>
          <a:ln w="0">
            <a:noFill/>
          </a:ln>
        </p:spPr>
      </p:pic>
      <p:pic>
        <p:nvPicPr>
          <p:cNvPr id="343" name="Rectangle 12" descr=""/>
          <p:cNvPicPr/>
          <p:nvPr/>
        </p:nvPicPr>
        <p:blipFill>
          <a:blip r:embed="rId6"/>
          <a:stretch/>
        </p:blipFill>
        <p:spPr>
          <a:xfrm>
            <a:off x="457200" y="2925720"/>
            <a:ext cx="3352680" cy="512640"/>
          </a:xfrm>
          <a:prstGeom prst="rect">
            <a:avLst/>
          </a:prstGeom>
          <a:ln w="0">
            <a:noFill/>
          </a:ln>
        </p:spPr>
      </p:pic>
      <p:pic>
        <p:nvPicPr>
          <p:cNvPr id="344" name="Rectangle 13" descr=""/>
          <p:cNvPicPr/>
          <p:nvPr/>
        </p:nvPicPr>
        <p:blipFill>
          <a:blip r:embed="rId7"/>
          <a:stretch/>
        </p:blipFill>
        <p:spPr>
          <a:xfrm>
            <a:off x="4005360" y="2987640"/>
            <a:ext cx="2395440" cy="590760"/>
          </a:xfrm>
          <a:prstGeom prst="rect">
            <a:avLst/>
          </a:prstGeom>
          <a:ln w="0">
            <a:noFill/>
          </a:ln>
        </p:spPr>
      </p:pic>
      <p:pic>
        <p:nvPicPr>
          <p:cNvPr id="345" name="Rectangle 14" descr=""/>
          <p:cNvPicPr/>
          <p:nvPr/>
        </p:nvPicPr>
        <p:blipFill>
          <a:blip r:embed="rId8"/>
          <a:stretch/>
        </p:blipFill>
        <p:spPr>
          <a:xfrm>
            <a:off x="6778800" y="3041640"/>
            <a:ext cx="1841400" cy="671400"/>
          </a:xfrm>
          <a:prstGeom prst="rect">
            <a:avLst/>
          </a:prstGeom>
          <a:ln w="0">
            <a:noFill/>
          </a:ln>
        </p:spPr>
      </p:pic>
      <p:pic>
        <p:nvPicPr>
          <p:cNvPr id="346" name="Rectangle 15" descr=""/>
          <p:cNvPicPr/>
          <p:nvPr/>
        </p:nvPicPr>
        <p:blipFill>
          <a:blip r:embed="rId9"/>
          <a:stretch/>
        </p:blipFill>
        <p:spPr>
          <a:xfrm>
            <a:off x="957240" y="5956200"/>
            <a:ext cx="1841400" cy="590760"/>
          </a:xfrm>
          <a:prstGeom prst="rect">
            <a:avLst/>
          </a:prstGeom>
          <a:ln w="0">
            <a:noFill/>
          </a:ln>
        </p:spPr>
      </p:pic>
      <p:pic>
        <p:nvPicPr>
          <p:cNvPr id="347" name="Rectangle 16" descr=""/>
          <p:cNvPicPr/>
          <p:nvPr/>
        </p:nvPicPr>
        <p:blipFill>
          <a:blip r:embed="rId10"/>
          <a:stretch/>
        </p:blipFill>
        <p:spPr>
          <a:xfrm>
            <a:off x="4108320" y="5748480"/>
            <a:ext cx="2689200" cy="877680"/>
          </a:xfrm>
          <a:prstGeom prst="rect">
            <a:avLst/>
          </a:prstGeom>
          <a:ln w="0">
            <a:noFill/>
          </a:ln>
        </p:spPr>
      </p:pic>
      <p:pic>
        <p:nvPicPr>
          <p:cNvPr id="348" name="Rectangle 17" descr=""/>
          <p:cNvPicPr/>
          <p:nvPr/>
        </p:nvPicPr>
        <p:blipFill>
          <a:blip r:embed="rId11"/>
          <a:stretch/>
        </p:blipFill>
        <p:spPr>
          <a:xfrm>
            <a:off x="6973920" y="6035760"/>
            <a:ext cx="1998720" cy="5904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7" descr="C:\Documents and Settings\Liz\Local Settings\Temporary Internet Files\Content.IE5\MB5MZXEX\MCj03402640000[1].wmf"/>
          <p:cNvPicPr/>
          <p:nvPr/>
        </p:nvPicPr>
        <p:blipFill>
          <a:blip r:embed="rId12"/>
          <a:stretch/>
        </p:blipFill>
        <p:spPr>
          <a:xfrm>
            <a:off x="1066680" y="4267080"/>
            <a:ext cx="2349720" cy="14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Liz LaRosa</dc:creator>
  <dc:description/>
  <dc:language>en-US</dc:language>
  <cp:lastModifiedBy>Liz</cp:lastModifiedBy>
  <dcterms:modified xsi:type="dcterms:W3CDTF">2008-08-15T23:41:43Z</dcterms:modified>
  <cp:revision>127</cp:revision>
  <dc:subject/>
  <dc:title>Slide 1</dc:title>
</cp:coreProperties>
</file>